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2CA-564D-4E59-93D2-32D9B663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C24-FBA6-4BBF-A5BE-6613F267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00D-0079-44BE-88AC-0B347058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D7B-F0E1-46B5-94C7-C9F58C6D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2C7-FBF8-458A-9EE4-E801B191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4A1-D3CC-48BA-A8BE-CE2C334C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B54-FBED-41DD-ACAD-1D8BE993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BE2-29E4-423C-B4BC-B03BAD27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0AF-F2CF-4267-B3D5-BB2F2156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FC3-EE12-4ECC-923C-9D61E893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085-3EDA-4760-8E9E-71D18124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ADF-2364-47A5-BA71-304C7C2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6D0A-4E9D-402E-98BC-47D79769D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5857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ВАУЧЕР на навчання - нові можливості працевлаштуванн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7000560"/>
            <a:ext cx="62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2060"/>
                </a:solidFill>
                <a:latin typeface="Calibri"/>
              </a:rPr>
              <a:t>Громадяни, які мають професійно-технічну чи вищу освіту, не зареєстровані в службі зайнятості т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вік яких становить 45+ (до досягнення пенсійного віку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страховий стаж – не менше як 15 рокі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є внутрішньо переміщеними особам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які були звільнені з військової служби після участі АТО/ООС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кутник 3"/>
          <p:cNvSpPr/>
          <p:nvPr/>
        </p:nvSpPr>
        <p:spPr>
          <a:xfrm>
            <a:off x="0" y="0"/>
            <a:ext cx="68580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кутник 4"/>
          <p:cNvSpPr/>
          <p:nvPr/>
        </p:nvSpPr>
        <p:spPr>
          <a:xfrm>
            <a:off x="0" y="8858160"/>
            <a:ext cx="68580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Z:\ФЕЙСБУК\Логотип\Логотип 1.1.png"/>
          <p:cNvPicPr/>
          <p:nvPr/>
        </p:nvPicPr>
        <p:blipFill>
          <a:blip r:embed="rId1"/>
          <a:stretch/>
        </p:blipFill>
        <p:spPr>
          <a:xfrm>
            <a:off x="142920" y="71280"/>
            <a:ext cx="129852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кутник 6"/>
          <p:cNvSpPr/>
          <p:nvPr/>
        </p:nvSpPr>
        <p:spPr>
          <a:xfrm>
            <a:off x="0" y="6643800"/>
            <a:ext cx="6858000" cy="3571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кутник 7"/>
          <p:cNvSpPr/>
          <p:nvPr/>
        </p:nvSpPr>
        <p:spPr>
          <a:xfrm>
            <a:off x="0" y="1500120"/>
            <a:ext cx="6858000" cy="3571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214200" y="6643800"/>
            <a:ext cx="64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ХТО МАЄ ПРАВО НА ОТРИМАННЯ ВАУЧЕРА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кутник 9"/>
          <p:cNvSpPr/>
          <p:nvPr/>
        </p:nvSpPr>
        <p:spPr>
          <a:xfrm>
            <a:off x="0" y="2714760"/>
            <a:ext cx="6858000" cy="571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0" y="2714760"/>
            <a:ext cx="6858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2060"/>
                </a:solidFill>
                <a:latin typeface="Arial"/>
                <a:ea typeface="Arial"/>
              </a:rPr>
              <a:t>За якими професіями можливе навчання за рахунок ваучера на базі Харківського центру професійно-технічної освіти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14200" y="1500120"/>
            <a:ext cx="6429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Що таке ВАУЧЕР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ідзаголовок 2"/>
          <p:cNvSpPr/>
          <p:nvPr/>
        </p:nvSpPr>
        <p:spPr>
          <a:xfrm>
            <a:off x="285840" y="3357720"/>
            <a:ext cx="65721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верстатник широкого профілю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куха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монтажник гіпсокартонних конструкці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плодоовочів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тракторист-машиніст сільськогосподарського (лісогосподарського) виробницт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кравец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лицювальник-плиточ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оператор верстатів з програмним керування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слюсар-ремонт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фрезерувальни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тока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2060"/>
                </a:solidFill>
                <a:latin typeface="Calibri"/>
              </a:rPr>
              <a:t>швач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кутник 14"/>
          <p:cNvSpPr/>
          <p:nvPr/>
        </p:nvSpPr>
        <p:spPr>
          <a:xfrm>
            <a:off x="357120" y="1857240"/>
            <a:ext cx="6357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Ваучер на навчання – це документ встановленого зразка, що дає право на перепідготовку, підготовку на наступному освітньо-кваліфікаційному рівні, спеціалізацію, підвищення кваліфікації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1T14:53:11Z</dcterms:created>
  <dc:creator>User</dc:creator>
  <dc:description/>
  <dc:language>en-US</dc:language>
  <cp:lastModifiedBy>user</cp:lastModifiedBy>
  <dcterms:modified xsi:type="dcterms:W3CDTF">2021-02-08T16:15:54Z</dcterms:modified>
  <cp:revision>5</cp:revision>
  <dc:subject/>
  <dc:title>ВАУЧЕР на навчання- нові можливості працевлаштування!</dc:title>
</cp:coreProperties>
</file>