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42C-7C3F-4789-AB08-6E43368C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010-DA8A-453B-8388-CE5E578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E4A-2F05-49ED-94F0-D24C8A03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093-2944-4B78-8216-41D34002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753-3FD6-4672-971F-EAC7EDE5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A57-523F-425E-ADB1-3702DC9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FEA-70F8-474B-B899-65140DEC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2B6-45CB-4834-AD8B-9DF8355F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2C8-40F2-43B5-8A02-056BF06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954-C409-4EA3-A58F-88A37BF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8BD-EA97-420B-8B6C-AFE5240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C19-6CDE-4591-A923-5CA081AD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057-0E7B-4FCC-8227-3D05CBEE1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АУЧЕР на навчання - нові можливості працевлаштуванн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7000560"/>
            <a:ext cx="62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2060"/>
                </a:solidFill>
                <a:latin typeface="Calibri"/>
              </a:rPr>
              <a:t>Громадяни, які мають професійно-технічну чи вищу освіту, не зареєстровані в службі зайнятості 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вік яких становить 45+ (до досягнення пенсійного вік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страховий стаж – не менше як 15 рокі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є внутрішньо переміщеними особам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які були звільнені з військової служби після участі АТО/ОО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3"/>
          <p:cNvSpPr/>
          <p:nvPr/>
        </p:nvSpPr>
        <p:spPr>
          <a:xfrm>
            <a:off x="0" y="0"/>
            <a:ext cx="6858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кутник 4"/>
          <p:cNvSpPr/>
          <p:nvPr/>
        </p:nvSpPr>
        <p:spPr>
          <a:xfrm>
            <a:off x="0" y="8858160"/>
            <a:ext cx="68580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Z:\ФЕЙСБУК\Логотип\Логотип 1.1.png"/>
          <p:cNvPicPr/>
          <p:nvPr/>
        </p:nvPicPr>
        <p:blipFill>
          <a:blip r:embed="rId1"/>
          <a:stretch/>
        </p:blipFill>
        <p:spPr>
          <a:xfrm>
            <a:off x="142920" y="71280"/>
            <a:ext cx="12985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кутник 6"/>
          <p:cNvSpPr/>
          <p:nvPr/>
        </p:nvSpPr>
        <p:spPr>
          <a:xfrm>
            <a:off x="0" y="6643800"/>
            <a:ext cx="6858000" cy="357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7"/>
          <p:cNvSpPr/>
          <p:nvPr/>
        </p:nvSpPr>
        <p:spPr>
          <a:xfrm>
            <a:off x="0" y="1500120"/>
            <a:ext cx="6858000" cy="357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14200" y="6643800"/>
            <a:ext cx="64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ХТО МАЄ ПРАВО НА ОТРИМАННЯ ВАУЧЕРА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кутник 9"/>
          <p:cNvSpPr/>
          <p:nvPr/>
        </p:nvSpPr>
        <p:spPr>
          <a:xfrm>
            <a:off x="0" y="2714760"/>
            <a:ext cx="6858000" cy="571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0" y="2714760"/>
            <a:ext cx="685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2060"/>
                </a:solidFill>
                <a:latin typeface="Arial"/>
                <a:ea typeface="Arial"/>
              </a:rPr>
              <a:t>За якими професіями можливе навчання за рахунок ваучера на базі Харківського центру професійно-технічної освіт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14200" y="1500120"/>
            <a:ext cx="64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Що таке ВАУЧЕР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ідзаголовок 2"/>
          <p:cNvSpPr/>
          <p:nvPr/>
        </p:nvSpPr>
        <p:spPr>
          <a:xfrm>
            <a:off x="285840" y="3357720"/>
            <a:ext cx="65721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верстатник широкого профіл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куха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монтажник гіпсокартонних конструкці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плодоовочів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тракторист-машиніст сільськогосподарського (лісогосподарського) виробницт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кравец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лицювальник-плиточ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оператор верстатів з програмним керуванн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слюсар-ремонт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фрезеруваль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тока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швач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кутник 14"/>
          <p:cNvSpPr/>
          <p:nvPr/>
        </p:nvSpPr>
        <p:spPr>
          <a:xfrm>
            <a:off x="357120" y="1857240"/>
            <a:ext cx="6357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Ваучер на навчання – це документ встановленого зразка, що дає право на перепідготовку, підготовку на наступному освітньо-кваліфікаційному рівні, спеціалізацію, підвищення кваліфікаці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1T14:53:11Z</dcterms:created>
  <dc:creator>User</dc:creator>
  <dc:description/>
  <dc:language>en-US</dc:language>
  <cp:lastModifiedBy>user</cp:lastModifiedBy>
  <dcterms:modified xsi:type="dcterms:W3CDTF">2021-02-08T16:15:54Z</dcterms:modified>
  <cp:revision>5</cp:revision>
  <dc:subject/>
  <dc:title>ВАУЧЕР на навчання- нові можливості працевлаштування!</dc:title>
</cp:coreProperties>
</file>