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995-C8C2-4CF7-BF65-30ADC2C8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570-0D39-4A07-8B5A-CA500D0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C50-D7C9-4147-B044-B6F97748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48A-92CC-43CA-B730-E117168A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979-C88A-42ED-9AEE-D58C9C7B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4A8-1BFC-47CC-B897-8C4FA57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9D2-45F2-4E4E-A9B9-297E58C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396-93E5-4AA1-8FF7-7D115FB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4D3-E5F6-467C-BDDC-853481A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E0D-0235-409C-A91B-AAE993F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C5A-FB06-4CB8-B8F4-0236C0C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16F-E0C2-4153-947F-0475162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43DF-6F23-400E-8139-A2379FB0B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АУЧЕР на навчання - нові можливості працевлаштуванн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7000560"/>
            <a:ext cx="62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Calibri"/>
              </a:rPr>
              <a:t>Громадяни, які мають професійно-технічну чи вищу освіту, не зареєстровані в службі зайнятості 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ік яких становить 45+ (до досягнення пенсійного вік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страховий стаж – не менше як 15 рокі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є внутрішньо переміщеними особам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які були звільнені з військової служби після участі АТО/ОО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3"/>
          <p:cNvSpPr/>
          <p:nvPr/>
        </p:nvSpPr>
        <p:spPr>
          <a:xfrm>
            <a:off x="0" y="0"/>
            <a:ext cx="6858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кутник 4"/>
          <p:cNvSpPr/>
          <p:nvPr/>
        </p:nvSpPr>
        <p:spPr>
          <a:xfrm>
            <a:off x="0" y="8858160"/>
            <a:ext cx="68580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Z:\ФЕЙСБУК\Логотип\Логотип 1.1.png"/>
          <p:cNvPicPr/>
          <p:nvPr/>
        </p:nvPicPr>
        <p:blipFill>
          <a:blip r:embed="rId1"/>
          <a:stretch/>
        </p:blipFill>
        <p:spPr>
          <a:xfrm>
            <a:off x="142920" y="71280"/>
            <a:ext cx="12985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кутник 6"/>
          <p:cNvSpPr/>
          <p:nvPr/>
        </p:nvSpPr>
        <p:spPr>
          <a:xfrm>
            <a:off x="0" y="664380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7"/>
          <p:cNvSpPr/>
          <p:nvPr/>
        </p:nvSpPr>
        <p:spPr>
          <a:xfrm>
            <a:off x="0" y="150012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14200" y="664380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ХТО МАЄ ПРАВО НА ОТРИМАННЯ ВАУЧЕРА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кутник 9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Arial"/>
                <a:ea typeface="Arial"/>
              </a:rPr>
              <a:t>За якими професіями можливе навчання за рахунок ваучера на базі Харківського центру професійно-технічної освіт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4200" y="150012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Що таке ВАУЧЕР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ідзаголовок 2"/>
          <p:cNvSpPr/>
          <p:nvPr/>
        </p:nvSpPr>
        <p:spPr>
          <a:xfrm>
            <a:off x="285840" y="3357720"/>
            <a:ext cx="65721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верстатник широкого профіл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ух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монтажник гіпсокартонних конструкці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плодоовочів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ракторист-машиніст сільськогосподарського (лісогосподарського) виробницт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равец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лицювальник-плиточ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оператор верстатів з програмним керуванн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слюсар-ремонт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фрезеруваль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ок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швач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кутник 14"/>
          <p:cNvSpPr/>
          <p:nvPr/>
        </p:nvSpPr>
        <p:spPr>
          <a:xfrm>
            <a:off x="357120" y="1857240"/>
            <a:ext cx="6357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аучер на навчання – це документ встановленого зразка, що дає право на перепідготовку, підготовку на наступному освітньо-кваліфікаційному рівні, спеціалізацію, підвищення кваліфікаці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1T14:53:11Z</dcterms:created>
  <dc:creator>User</dc:creator>
  <dc:description/>
  <dc:language>en-US</dc:language>
  <cp:lastModifiedBy>user</cp:lastModifiedBy>
  <dcterms:modified xsi:type="dcterms:W3CDTF">2021-02-08T16:15:54Z</dcterms:modified>
  <cp:revision>5</cp:revision>
  <dc:subject/>
  <dc:title>ВАУЧЕР на навчання- нові можливості працевлаштування!</dc:title>
</cp:coreProperties>
</file>